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05F9-6EC8-4DFA-9A07-2F9A743FA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A748-CC83-4FA7-AA1B-58EE2C353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CF47-8EB1-4D69-A896-A5B5191B2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535A-0F46-47DA-A005-041260B9B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9C81-2CCB-4E13-A53F-CA85A9BA1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7FDF-4650-490C-9294-4E272B53A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FE43-F90E-429F-A81F-550F17536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E400-7705-4CF9-A388-2CE91B530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0DA9-A20B-4435-ABF7-C2435878C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6766-71F6-43E7-A9C5-3781156C0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CE3A-FCBF-4914-B75F-22A3E4742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5080-2BFF-4151-9658-94C04AF73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rvation &amp; Stewardship Track - Session: View from the Field -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0CD8-F2E3-4C76-9524-4AB86B005C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3123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ew from the Field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Questions to ponder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other disciplines, agencies, communities doing for preservation and stewardship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y deal with databases, collections of files, physical objects, ad-hoc services such as work flow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y deal with provenanc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lessons to be learned and incorporated into earth science pract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Agenda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ce Wilson -  Ecological Society of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rav Merchant - i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Djorgovski - National Virtual Observatory/Cal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 Hughes - Planetary Data Systems/JP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Moore - N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 Morris - LO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an Wilson (JPL) - scif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olo Missier - My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4:31:11Z</dcterms:modified>
  <cp:revision>6</cp:revision>
  <dc:subject/>
  <dc:title>Preservation &amp; Stewardship</dc:title>
</cp:coreProperties>
</file>